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941-4AAC-40D9-9D8D-1E5B82BB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243-96F0-448F-BBAC-D8B59B5D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5B0-0B56-4E9A-A716-803783DD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2A3-CF7D-4F5A-8673-BF45D91F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288-872A-4293-BB2E-BB6D6767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F34-4CBE-49DB-8DB6-4A7429D4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4C7-8FCB-4FE2-8967-83145FE0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C7D-C95A-464B-AC89-EE7B752E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821-564E-4FB6-A64D-A162868D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2A7-4473-427A-9AED-5B83DD21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00C-274F-4D9F-A8D6-74452012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CE3-7401-4894-B4E4-4DDAB4C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1AD4-9F3F-4745-B038-D028821B4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54640" cy="1044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4382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5438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2240" cy="121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934320" y="304920"/>
            <a:ext cx="1218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7696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077320" cy="229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60948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19112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7619760" cy="4187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7772400" cy="744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6248520"/>
            <a:ext cx="1447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526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7772400" cy="1101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638680"/>
            <a:ext cx="1295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6172200"/>
            <a:ext cx="2438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279680" cy="6248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2133720"/>
            <a:ext cx="25909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952880"/>
            <a:ext cx="1218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638680"/>
            <a:ext cx="1295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2:28:35Z</dcterms:created>
  <dc:creator>grahams</dc:creator>
  <dc:description/>
  <dc:language>en-US</dc:language>
  <cp:lastModifiedBy>grahams</cp:lastModifiedBy>
  <dcterms:modified xsi:type="dcterms:W3CDTF">2012-03-22T12:52:53Z</dcterms:modified>
  <cp:revision>3</cp:revision>
  <dc:subject/>
  <dc:title>Slide 1</dc:title>
</cp:coreProperties>
</file>